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2712"/>
        <c:axId val="57033145"/>
      </c:barChart>
      <c:catAx>
        <c:axId val="19782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33145"/>
        <c:crosses val="autoZero"/>
        <c:auto val="1"/>
        <c:lblAlgn val="ctr"/>
        <c:lblOffset val="100"/>
        <c:noMultiLvlLbl val="0"/>
      </c:catAx>
      <c:valAx>
        <c:axId val="57033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2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B26-B642-4D48-84CC-41DC9780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3CB-8D0E-4A07-9FC9-824D1DAF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2C4-BA73-4ACF-BA18-FCDBCE9F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259-7184-4857-8516-6CDAF043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79B-BF8A-452B-9FE4-D5B940C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03B-82F0-4BFA-B82F-E9FCC08F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B12-C23E-4084-8A06-55BBE37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A07-F9EB-486A-B424-EFB106F4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AA2-69DB-4D92-BDFC-FD70999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22A-3672-4ED6-BF48-DDB484D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BBA-8576-4FC0-AF4D-8F93879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3C6-818E-466A-ACBC-FDAE4C1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D1F12-DD9B-45F1-9223-F01A94536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