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54172"/>
        <c:axId val="89052021"/>
      </c:barChart>
      <c:catAx>
        <c:axId val="35354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2021"/>
        <c:crosses val="autoZero"/>
        <c:auto val="1"/>
        <c:lblAlgn val="ctr"/>
        <c:lblOffset val="100"/>
        <c:noMultiLvlLbl val="0"/>
      </c:catAx>
      <c:valAx>
        <c:axId val="89052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54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5ED-9221-40C9-9B05-1BF0A4AB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864-ECC3-4ACA-8E65-92D6AE9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517-D84D-4027-9997-BD1AE474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24B-8A71-4EBB-A2FD-40582317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073-C2DD-4B7D-B463-5425AE69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929-AA9C-4D59-A3BE-A7E9AC70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CA6-F181-42CF-A380-689ADB4A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CC5-58FA-40BA-A1CE-1DCECCF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6E5-7DDD-4FD9-874F-4CB95EA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031-2735-4AE0-BC45-A76BA650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F46-5611-4FB1-A2A5-778AA9B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F2F-7878-433F-9E4F-B805B29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C663F-B60C-4993-BF7F-A0AEB1CCD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